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D08-2B47-4BD5-A833-89117237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357-E23B-4D07-B3EB-0F8E2F16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38C-F78D-4ACB-9C21-28A200C1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A9A-1114-4E30-A978-DFDC5FF9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6DE-3D15-4584-BC3D-09F7DD54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B79-4D0F-4E32-AA9C-64D309A9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E84-D603-4F25-8F9B-A9848834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9BA-46E4-4144-ACF5-E10EA860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C92-16E4-4411-9B02-422CC3D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FFC-0E39-429D-9295-9AE9226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2F6-57D6-4966-A41A-1A5163D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7BB-3DF4-4A99-9C61-119D07A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506-68E5-4A2F-99B0-BE04FDE81164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E911-1BF5-40FC-8C20-44CB6905435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97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Y (CBA) Nº 325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01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898989"/>
                </a:solidFill>
                <a:latin typeface="Calibri"/>
              </a:rPr>
              <a:t>Nuevas Obligaciones del Administr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98989"/>
                </a:solidFill>
                <a:latin typeface="Calibri"/>
              </a:rPr>
              <a:t>2a. Jornada Consorcios 11/8/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98989"/>
                </a:solidFill>
                <a:latin typeface="Calibri"/>
              </a:rPr>
              <a:t>Dr. Leopoldo I. Gurovi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250A-FA5D-4A8D-9A4B-7597AE95721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5BE1-7C97-4B00-8E6D-51ABA804AA4E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bligaciones del Administrador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 el Capítulo II de acuerdo al siguiente articu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pítulo II.- OBLIGACIONES DEL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F4E-33FC-41DF-95B1-9DAC5179FBAA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7DCE-4460-4A20-8639-4B06FE9B7EF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tancia de inscripció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. 7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8º.-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Presentación de la constancia de inscrip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ualmente en la asamblea ordina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trega copia de la ley propietarios prese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a asamblea que donde se considere su designación o continu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2358-7EA6-4092-A0F2-C4094207AB81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919B-880F-403B-9D10-F933EB3DB0C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ligacion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9º.-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bligaciones del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cutar las decisiones adoptadas por la Asambl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ender conservación de las parte comunes y seguridad del edif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egurar el edificio contra incendio y accidente, al personal dependiente del Consorcio y terc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F23-3D25-4480-AB04-FC81A9FE31E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E14C-7553-4FA9-930B-4F6AF9C680E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ligacion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) Llevar en debida forma los libro del Consor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) Llevar un libro de Registro de Firmas de los Copropietar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) Conservar la documentación del consorcio. Acceso de los consorc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) Denunciar ante el Gobierno de la Ciudad, toda situación antirreglamentaria. Obras ejecutas sin permiso o aviso de ob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12A3-0189-482E-BB9F-4B116BDD560D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F4B1-84D7-4F0D-9FFA-085C04820EC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ligacion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) Depositar los fondos en cuenta corriente bancaria a nombre del Consorcio, excepto decisión en contrario de la Asambl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) Auditoría Contable o Informe de Control de Gestión si lo aprueba la Asambl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j) Convocar a las Asambleas Ordinarias o Extraordinarias, especificando lugar, día, temario y horario de comienzo y final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juntar copia de la última asambl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6AB0-0CD9-40B8-8A17-2092509D407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9691-C130-4449-865F-0B322EB5D4F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ligacion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caso de renuncia, cese o remo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10 días para poner a disposición del consorcio los libros y documentación de su gest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o puede ejercerse la retención de los mismos en ningún ca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92B2-C8E8-40CC-B3EB-51A61BD0CDE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AADF-93E5-48F4-B88A-2205001499E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CIBOS DE PAGO DE EXPENSAS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merados y contener los siguientes da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nominación y domicilio del consor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so y depart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mbre y apellido del propi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648C-E1E0-418D-98E2-2EC163AD09FA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D4D-E2D4-459A-92AE-BB0141C7EC3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CIBOS DE PAGO DE EXPENSAS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. Mes que se abona, período o concep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. Vencimiento, con su interés respec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3021-360A-4A74-A785-5E996DFCE8D7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759A-66BE-42AC-9F5A-022054AC832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CIBOS DE PAGO DE EXPENSA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. Datos del administrador, firma y aclaración, C.U.I.T. y número de inscripción en el Regis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. Lugar y formas de p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pósito Juicios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caso de juicios con sentencia favorable al Consorc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epositar en cuenta del Consorcio en un plazo de  dos (2) días desde su cob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6057-7FFB-458E-8731-489DA240827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85F-25C3-43BD-91B1-ECA1E11EF5D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reto 1068/09 B.O.C.B.A. Nº 3315 4/12/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 y agrega texto a diversos artículos e incorpora capítulos a la Ley (CBA) Nº 941/02 del Registro Público de Administrad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2716-EF7D-4680-BB20-D11453757C4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C985-4A82-479A-A8D2-754E287D9A2F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LIQUIDACIONES DE EXPENSAS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rt. 10.-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Contenido de las liquidaciones de expens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atos del administrador (nombre, domicilio, teléfono, C.U.I.T. o C.U.I.L., N° de inscripción en el Registr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atos del consorcio, con el N° de C.U.I.T. y Clave del Suter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etalle de ingresos y egresos del mes anterior y el activo o pasivo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E3C-C05E-4277-B90E-AB40BE7B2680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04FE-00E4-4AC3-A949-3D8C0B44655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LIQUIDACIONES DE EXPENSAS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) Nombre y cargo del personal del consorcio, indicando categoría del edificio, N° de C.U.I.L., sueldo básico, horas extras detalladas, período al que corresponde el pago, detalle de descuentos y aportes por cargas sociales a cargo del consorc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907-2F17-496E-9BB3-3453EB49A114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5A75-D715-408E-B1FA-C702B457726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LIQUIDACIONES DE EXPENSAS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) Detalle de los pagos por suministros, servicios y abonos a contratist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ombre de la emp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° de CUIT o CU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° de matríc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rabajo realizado, elementos provi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Importe total, cantidad de cuotas y N° cu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379E-270E-4174-B06A-A14419ECB870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17F-66E9-48C2-A490-351C4C88B8F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LIQUIDACIONES DE EXPENSAS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f.- Detalle de pago de segu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mpañía de segu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° de póliza, tipo de segu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lementos asegu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Fechas de vencimiento de la póli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úmero de cuota que se p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8DE0-D0A7-4371-B791-5D1EBF0ED1EA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0A9-B596-40D2-B2AD-238690B795D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ECIBO DEL ADMINISTRADOR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g. Debe conten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° de C.U.I.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° del Registro de Administr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itu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Importe to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eríodo al que corresp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EEA9-C6FB-4D8B-8521-EA3961E3D18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CCEA-E136-40D1-A4DC-28DEDB7654C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talle de juicios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h.- Si existen juicios a favor o en contra del    Consorci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° de Juzgado interviniente y exped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arát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Obje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apital reclam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5791-684F-46B5-9BFD-0977038E00E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7C50-453E-45D2-990B-CFF22AA6C86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Extracto bancari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i.- Incluir el extracto bancario del Consorcio del mes anter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08DC-3B4C-4A98-9657-DB2B64EA221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DA63-50CE-44C3-A6C1-A5613F78EA5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quisitos para contratar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rt. 11.-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Del prestador o contratis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ítulo y/o matríc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ombre, domicilio, datos identificato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Fotocopia de la inscripción en AF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escripción detallada de precios, mater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y mano de obra, por separ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Disp. DGDYPC 6013/09. 60 dí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3F87-8CBC-4DCF-9548-F6FC47E57CF2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A0FC-0CC4-4630-9B10-061CE72F657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ontratación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l pla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i se otorga garantía o no, en su ca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lcance y du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lazo de mantenimiento del pre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RT del personal a carg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sponsabilidad Ci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utónomos, pólizas endosadas a favor 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sor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B4C-879F-44D3-96B7-6DEF7F8FAB0A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337-8B0F-4097-A0B8-6D7E51B99D1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ontratación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xigir comprobantes originales y guar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lazo: 2 añ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samblea plazo may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paraciones urgentes exceptuad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7AEC-3791-4E29-9038-06BA23EA71A7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D584-0196-4288-872F-BE83D35CD8E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ligación de inscribirs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1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 el Art. 2º de la Ley 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2º.-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bligación de Inscrip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r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at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F991-52EA-4358-85A8-E9A363C5C432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0C6-8158-4DC8-8E7B-14BEAEBBD2B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claración Jurad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rt. 12.-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Presentar anual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1) Lista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tualizado de los consorcios 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ministra, gratuito u onero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2) Copia de las actas de asamblea relativas a rendiciones de cuen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3F78-039E-4A11-8505-3E605489267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DFF-98F0-4293-BED4-B686796CE2B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claración Jurad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3) Detalle de los pagos de los aportes y contribuciones previsionales, de seguridad social y cualquier otro aporte de carácter obligatorio, ART y cuota sindical del personal depend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4)Detalle de los pagos efectuados en concepto de mantenimiento e inspecciones obligato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CF6F-B2F8-496E-B2F0-2AFFE89C025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192F-E028-415B-B477-0F04AE4BE99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claración Jurad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7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5) Declaración jurada patrimonial ante el consorcio y aprobada por este, destinado a garantizar sus responsabilidades como administrador. Esta declaración podrá sustituirse con un seguro de responsabilidad profesional - Seguro de Caución - Vto. 30/6/2010. Prorrogado hasta el 1/11/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dministradores “Voluntarios” exim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4215-B670-417D-8375-0FAAA9DE9D72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74C-0C22-4443-B9D5-D84C31DC9D7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ISP. N° 6013 DGDYPC 10/12/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eguro integral de consorcio y ambien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Informe sobre Pólizas de Seguro en Vigencia Plazo 60 días, prorrogados por  Disp. 230/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unto 1. Hasta el 1/4/10. Prorrogado 1/7/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unto 2. Hasta el 15/3/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6D8A-1AFB-449F-8261-DB46FA758BEF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BCC1-AA2D-43E5-ACE7-B8B33BBDAA3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Mandato de administración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8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odifica el capítulo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rt. 13.-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Duració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1 año en su función, excepto RC y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isposición en contr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uede ser renovado por Asamblea, segú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ayorías del RC y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su defecto por los dos tercios de los propietarios prese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DE0-BC9F-4C17-A755-9D7EF0793491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CC6-08B3-42BF-A219-98BB297F312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Mandato de administración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8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uede ser removido antes del año con 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ayoría del RC y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érmino de un  año rige a partir del 5/11/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659-45A7-46B4-8417-0E011979912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F704-B9E6-4483-A269-0C52D97F2A5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Honorarios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8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rt. 14.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cuerdo de pa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odificación por Asamblea Ordinaria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xtraordinaria convocada al efecto y por 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ayoría dispuesta en el RC y A. A falta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isposición mayoría absol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EB4-CCC9-4D71-A367-8E6611B7F417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DA87-AEE0-4A12-A5BF-79471A523C9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égimen de Infracciones y sanciones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rt. 9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rt. 15.-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Son infrac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.-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jercer la actividad y no estar inscri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b.- La contratación de provisión de bienes y servicios que no cumplan el art. 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.- Falsear datos del art. 4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.- Incumplimiento atribuible al administrador de los art. 9° y 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. Incumplimiento art. 6° al final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9EF-09C1-4D06-A508-28CF17FC5429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B4B6-9E93-44E7-90C8-204A92A700F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rt. 9 San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rt. 16.-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Sanci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.- Multa entre uno (1) y cine (100) salarios correspondientes al sueldo del encargado de 4ª. Categoría sin vivienda ($2.1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.- Suspensión hasta 9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.- Exclusión del Regis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 puede acumular la sanción prevista en 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 b) y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2E5-CC95-4A5F-B711-BE4BE3B113C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9B7C-35A4-4BD9-9C79-848CD647223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rt. 9 San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grav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erjuicio patrimon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incid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incidente sancionado que incurra en otra infracción dentro del período de dos (2) años subsiguientes a que la sanción quedara fir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rescriben a los tres (3) años desde la no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B5A-652B-47ED-9791-FD5A57B6C290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429-597A-4C28-BB74-167C6CDDA3A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dministrado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2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3º.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dministradores Voluntari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pietarios que residan en unidades funcionales de edifi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mplan la función de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forma gratui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3F5-49E2-4D3A-A00F-B2B50CE1F795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80AE-2CED-41CE-930A-275AB56B23C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00b0f0"/>
                </a:solidFill>
                <a:latin typeface="Calibri"/>
              </a:rPr>
              <a:t>MUCHAS GRACIAS POR SU PRESENCI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quisitos inscripc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3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grega a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4º.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.- Informe Expedido por el Registro de Juicios Univers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. Certificado de aprobación de un curso de capacitación en administración de consorcios de propiedad horizontal, en el modo y forma que establezca la reglamentación de la pres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C66-130B-4639-9181-DEC992A37E23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BB8B-8D08-49DD-8E46-B326526691C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quisitos Inscripc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3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dministradores voluntari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Original y copia del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Copia certificada con  la designación ad honorem. Descripción de la unidad funcional de la cual es propietario con su número de matrícula en el RP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su defecto simple declaración jurada de la totalidad de los copropiet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A221-F03C-40AB-8C17-B2CF710A6FA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C4EA-01A1-4931-8DEA-0046CF8832F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pediment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4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grega a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5º.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. Los inhabilitados por condena penal por delitos dolosos relacionados con la administración de intereses, bienes o fondos ajenos, mientras dure la inhabilitación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A089-18FF-41E6-A4A6-303079766F08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65D2-DE2B-4D0A-9D93-4ED1814E49F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ertificado Acreditació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. 5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 e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6º.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ertificado de acreditación”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od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os administradores deben presentarlo en la Asamblea Ordinaria / Extraordinaria que se considere su design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lidez 30 d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stancia de todos los datos del art. 4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nciones en los últimos dos añ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8408-0110-41EB-9169-813CD66D0EBE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F45-C133-4776-87CE-1793D719522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ublicidad del Registr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6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 e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t. 7º.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blicidad del Registr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eso públ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at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ponible en la Web del GC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lamentación establecerá lugares fís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104-D601-47BE-9472-3E6D61434EBC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LEY CBA Nº 3254                                           DR. LEOPOLDO I. GUROV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323-A9D4-41A7-AD74-79C7965514A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3:11:34Z</dcterms:created>
  <dc:creator>DR. LEOPOLDO GUROVICH</dc:creator>
  <dc:description/>
  <dc:language>en-US</dc:language>
  <cp:lastModifiedBy>Your User Name</cp:lastModifiedBy>
  <dcterms:modified xsi:type="dcterms:W3CDTF">2010-08-11T15:20:28Z</dcterms:modified>
  <cp:revision>42</cp:revision>
  <dc:subject/>
  <dc:title>LEY (CBA) Nº 3254</dc:title>
</cp:coreProperties>
</file>